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9.gif" ContentType="image/gif"/>
  <Override PartName="/ppt/media/image24.wmf" ContentType="image/x-wmf"/>
  <Override PartName="/ppt/media/image28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21.jpeg" ContentType="image/jpeg"/>
  <Override PartName="/ppt/media/image32.wmf" ContentType="image/x-wmf"/>
  <Override PartName="/ppt/media/image18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.gif" ContentType="image/gif"/>
  <Override PartName="/ppt/media/image8.png" ContentType="image/png"/>
  <Override PartName="/ppt/media/image13.png" ContentType="image/png"/>
  <Override PartName="/ppt/media/image36.wmf" ContentType="image/x-wmf"/>
  <Override PartName="/ppt/media/image48.gif" ContentType="image/gif"/>
  <Override PartName="/ppt/media/image39.png" ContentType="image/png"/>
  <Override PartName="/ppt/media/image9.png" ContentType="image/png"/>
  <Override PartName="/ppt/media/image38.jpeg" ContentType="image/jpeg"/>
  <Override PartName="/ppt/media/image37.wmf" ContentType="image/x-wmf"/>
  <Override PartName="/ppt/media/image41.gif" ContentType="image/gif"/>
  <Override PartName="/ppt/media/image27.wmf" ContentType="image/x-wmf"/>
  <Override PartName="/ppt/media/image42.png" ContentType="image/png"/>
  <Override PartName="/ppt/media/image45.wmf" ContentType="image/x-wmf"/>
  <Override PartName="/ppt/media/image46.png" ContentType="image/png"/>
  <Override PartName="/ppt/media/image11.png" ContentType="image/png"/>
  <Override PartName="/ppt/media/image47.wmf" ContentType="image/x-wmf"/>
  <Override PartName="/ppt/media/image12.png" ContentType="image/png"/>
  <Override PartName="/ppt/media/image44.gif" ContentType="image/gif"/>
  <Override PartName="/ppt/media/image40.wmf" ContentType="image/x-wmf"/>
  <Override PartName="/ppt/media/image7.png" ContentType="image/png"/>
  <Override PartName="/ppt/media/image10.png" ContentType="image/png"/>
  <Override PartName="/ppt/media/image5.wmf" ContentType="image/x-wmf"/>
  <Override PartName="/ppt/media/image35.wmf" ContentType="image/x-wmf"/>
  <Override PartName="/ppt/media/image4.wmf" ContentType="image/x-wmf"/>
  <Override PartName="/ppt/media/image3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4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C15-5CD1-4D3A-B2A9-052FDFAF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3B8-4B03-42AE-998F-C587D7DF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1F6-B643-4D64-82E5-B56618F3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313-7B62-46A2-9E11-F468B6EB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A6D-B11C-4701-9487-F4AD0FB5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6CF-0894-4E0C-AE5E-B8FD1D88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E80-199F-463A-A212-BC4AC618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E6B-E2CB-4704-A22D-AE415954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1DA-F620-4630-810E-1DAD095C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5A9-19CD-4B2E-8AB7-20C144AC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D0D-4690-4906-AB64-97A9458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D13-0500-44EB-B52F-5EA8F62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4B10-893E-4F02-B828-3D34CAA5E14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2.xml"/><Relationship Id="rId8" Type="http://schemas.openxmlformats.org/officeDocument/2006/relationships/image" Target="../media/image9.png"/><Relationship Id="rId9" Type="http://schemas.openxmlformats.org/officeDocument/2006/relationships/slide" Target="slide14.xml"/><Relationship Id="rId10" Type="http://schemas.openxmlformats.org/officeDocument/2006/relationships/image" Target="../media/image10.png"/><Relationship Id="rId11" Type="http://schemas.openxmlformats.org/officeDocument/2006/relationships/slide" Target="slide16.xml"/><Relationship Id="rId12" Type="http://schemas.openxmlformats.org/officeDocument/2006/relationships/image" Target="../media/image11.png"/><Relationship Id="rId13" Type="http://schemas.openxmlformats.org/officeDocument/2006/relationships/slide" Target="slide18.xml"/><Relationship Id="rId14" Type="http://schemas.openxmlformats.org/officeDocument/2006/relationships/image" Target="../media/image12.png"/><Relationship Id="rId15" Type="http://schemas.openxmlformats.org/officeDocument/2006/relationships/slide" Target="slide20.xml"/><Relationship Id="rId16" Type="http://schemas.openxmlformats.org/officeDocument/2006/relationships/image" Target="../media/image13.png"/><Relationship Id="rId17" Type="http://schemas.openxmlformats.org/officeDocument/2006/relationships/slide" Target="slide22.xml"/><Relationship Id="rId18" Type="http://schemas.openxmlformats.org/officeDocument/2006/relationships/image" Target="../media/image14.png"/><Relationship Id="rId19" Type="http://schemas.openxmlformats.org/officeDocument/2006/relationships/hyperlink" Target="http://imagecool.tw/07&#32178;&#38913;&#25554;&#22294;/14&#33521;&#25991;&#25976;&#23383;/03&#19968;&#22534;&#25976;&#23383;/&#20013;10/075.gif" TargetMode="External"/><Relationship Id="rId20" Type="http://schemas.openxmlformats.org/officeDocument/2006/relationships/image" Target="../media/image15.png"/><Relationship Id="rId21" Type="http://schemas.openxmlformats.org/officeDocument/2006/relationships/slide" Target="slide24.xml"/><Relationship Id="rId22" Type="http://schemas.openxmlformats.org/officeDocument/2006/relationships/image" Target="../media/image6.png"/><Relationship Id="rId23" Type="http://schemas.openxmlformats.org/officeDocument/2006/relationships/hyperlink" Target="http://imagecool.tw/07&#32178;&#38913;&#25554;&#22294;/14&#33521;&#25991;&#25976;&#23383;/03&#19968;&#22534;&#25976;&#23383;/&#20013;10/076.gif" TargetMode="External"/><Relationship Id="rId24" Type="http://schemas.openxmlformats.org/officeDocument/2006/relationships/image" Target="../media/image6.png"/><Relationship Id="rId25" Type="http://schemas.openxmlformats.org/officeDocument/2006/relationships/slide" Target="slide26.xml"/><Relationship Id="rId26" Type="http://schemas.openxmlformats.org/officeDocument/2006/relationships/image" Target="../media/image6.png"/><Relationship Id="rId27" Type="http://schemas.openxmlformats.org/officeDocument/2006/relationships/slide" Target="slide30.xml"/><Relationship Id="rId28" Type="http://schemas.openxmlformats.org/officeDocument/2006/relationships/image" Target="../media/image6.png"/><Relationship Id="rId29" Type="http://schemas.openxmlformats.org/officeDocument/2006/relationships/hyperlink" Target="http://imagecool.tw/07&#32178;&#38913;&#25554;&#22294;/14&#33521;&#25991;&#25976;&#23383;/03&#19968;&#22534;&#25976;&#23383;/&#20013;10/077.gif" TargetMode="External"/><Relationship Id="rId30" Type="http://schemas.openxmlformats.org/officeDocument/2006/relationships/image" Target="../media/image7.png"/><Relationship Id="rId31" Type="http://schemas.openxmlformats.org/officeDocument/2006/relationships/slide" Target="slide32.xml"/><Relationship Id="rId32" Type="http://schemas.openxmlformats.org/officeDocument/2006/relationships/image" Target="../media/image6.png"/><Relationship Id="rId33" Type="http://schemas.openxmlformats.org/officeDocument/2006/relationships/slide" Target="slide28.xml"/><Relationship Id="rId34" Type="http://schemas.openxmlformats.org/officeDocument/2006/relationships/image" Target="../media/image6.png"/><Relationship Id="rId35" Type="http://schemas.openxmlformats.org/officeDocument/2006/relationships/hyperlink" Target="http://imagecool.tw/07&#32178;&#38913;&#25554;&#22294;/14&#33521;&#25991;&#25976;&#23383;/03&#19968;&#22534;&#25976;&#23383;/&#20013;10/079.gif" TargetMode="External"/><Relationship Id="rId36" Type="http://schemas.openxmlformats.org/officeDocument/2006/relationships/image" Target="../media/image9.png"/><Relationship Id="rId37" Type="http://schemas.openxmlformats.org/officeDocument/2006/relationships/hyperlink" Target="http://imagecool.tw/07&#32178;&#38913;&#25554;&#22294;/14&#33521;&#25991;&#25976;&#23383;/03&#19968;&#22534;&#25976;&#23383;/&#20013;10/078.gif" TargetMode="External"/><Relationship Id="rId38" Type="http://schemas.openxmlformats.org/officeDocument/2006/relationships/image" Target="../media/image8.png"/><Relationship Id="rId39" Type="http://schemas.openxmlformats.org/officeDocument/2006/relationships/image" Target="../media/image4.wmf"/><Relationship Id="rId4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6.png"/><Relationship Id="rId3" Type="http://schemas.openxmlformats.org/officeDocument/2006/relationships/slide" Target="slide36.xml"/><Relationship Id="rId4" Type="http://schemas.openxmlformats.org/officeDocument/2006/relationships/image" Target="../media/image7.png"/><Relationship Id="rId5" Type="http://schemas.openxmlformats.org/officeDocument/2006/relationships/slide" Target="slide38.xml"/><Relationship Id="rId6" Type="http://schemas.openxmlformats.org/officeDocument/2006/relationships/image" Target="../media/image8.png"/><Relationship Id="rId7" Type="http://schemas.openxmlformats.org/officeDocument/2006/relationships/slide" Target="slide40.xml"/><Relationship Id="rId8" Type="http://schemas.openxmlformats.org/officeDocument/2006/relationships/image" Target="../media/image9.png"/><Relationship Id="rId9" Type="http://schemas.openxmlformats.org/officeDocument/2006/relationships/slide" Target="slide44.xml"/><Relationship Id="rId10" Type="http://schemas.openxmlformats.org/officeDocument/2006/relationships/image" Target="../media/image10.png"/><Relationship Id="rId11" Type="http://schemas.openxmlformats.org/officeDocument/2006/relationships/slide" Target="slide46.xml"/><Relationship Id="rId12" Type="http://schemas.openxmlformats.org/officeDocument/2006/relationships/image" Target="../media/image11.png"/><Relationship Id="rId13" Type="http://schemas.openxmlformats.org/officeDocument/2006/relationships/slide" Target="slide48.xml"/><Relationship Id="rId14" Type="http://schemas.openxmlformats.org/officeDocument/2006/relationships/image" Target="../media/image12.png"/><Relationship Id="rId15" Type="http://schemas.openxmlformats.org/officeDocument/2006/relationships/slide" Target="slide50.xml"/><Relationship Id="rId16" Type="http://schemas.openxmlformats.org/officeDocument/2006/relationships/image" Target="../media/image13.png"/><Relationship Id="rId17" Type="http://schemas.openxmlformats.org/officeDocument/2006/relationships/slide" Target="slide52.xml"/><Relationship Id="rId18" Type="http://schemas.openxmlformats.org/officeDocument/2006/relationships/image" Target="../media/image14.png"/><Relationship Id="rId19" Type="http://schemas.openxmlformats.org/officeDocument/2006/relationships/slide" Target="slide54.xml"/><Relationship Id="rId20" Type="http://schemas.openxmlformats.org/officeDocument/2006/relationships/image" Target="../media/image6.png"/><Relationship Id="rId21" Type="http://schemas.openxmlformats.org/officeDocument/2006/relationships/hyperlink" Target="http://imagecool.tw/07&#32178;&#38913;&#25554;&#22294;/14&#33521;&#25991;&#25976;&#23383;/03&#19968;&#22534;&#25976;&#23383;/&#20013;10/075.gif" TargetMode="External"/><Relationship Id="rId22" Type="http://schemas.openxmlformats.org/officeDocument/2006/relationships/image" Target="../media/image15.png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6.png"/><Relationship Id="rId3" Type="http://schemas.openxmlformats.org/officeDocument/2006/relationships/slide" Target="slide58.xml"/><Relationship Id="rId4" Type="http://schemas.openxmlformats.org/officeDocument/2006/relationships/image" Target="../media/image7.png"/><Relationship Id="rId5" Type="http://schemas.openxmlformats.org/officeDocument/2006/relationships/slide" Target="slide62.xml"/><Relationship Id="rId6" Type="http://schemas.openxmlformats.org/officeDocument/2006/relationships/image" Target="../media/image9.png"/><Relationship Id="rId7" Type="http://schemas.openxmlformats.org/officeDocument/2006/relationships/slide" Target="slide60.xml"/><Relationship Id="rId8" Type="http://schemas.openxmlformats.org/officeDocument/2006/relationships/image" Target="../media/image8.png"/><Relationship Id="rId9" Type="http://schemas.openxmlformats.org/officeDocument/2006/relationships/slide" Target="slide64.xml"/><Relationship Id="rId10" Type="http://schemas.openxmlformats.org/officeDocument/2006/relationships/image" Target="../media/image10.png"/><Relationship Id="rId11" Type="http://schemas.openxmlformats.org/officeDocument/2006/relationships/slide" Target="slide66.xml"/><Relationship Id="rId12" Type="http://schemas.openxmlformats.org/officeDocument/2006/relationships/image" Target="../media/image11.png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3.xml"/><Relationship Id="rId5" Type="http://schemas.openxmlformats.org/officeDocument/2006/relationships/image" Target="../media/image4.wm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06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SimHei"/>
              </a:rPr>
              <a:t>Welcome to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SimHei"/>
              </a:rPr>
              <a:t>“</a:t>
            </a:r>
            <a:r>
              <a:rPr b="1" lang="en-US" sz="4400" spc="-1" strike="noStrike">
                <a:solidFill>
                  <a:srgbClr val="d60093"/>
                </a:solidFill>
                <a:latin typeface="Arial Black"/>
                <a:ea typeface="SimHei"/>
              </a:rPr>
              <a:t>H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  <a:ea typeface="SimHei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Arial Black"/>
                <a:ea typeface="SimHei"/>
              </a:rPr>
              <a:t>p</a:t>
            </a:r>
            <a:r>
              <a:rPr b="1" lang="en-US" sz="4400" spc="-1" strike="noStrike">
                <a:solidFill>
                  <a:srgbClr val="009999"/>
                </a:solidFill>
                <a:latin typeface="Arial Black"/>
                <a:ea typeface="SimHei"/>
              </a:rPr>
              <a:t>p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  <a:ea typeface="SimHei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SimHei"/>
              </a:rPr>
              <a:t> 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  <a:ea typeface="SimHei"/>
              </a:rPr>
              <a:t>F</a:t>
            </a:r>
            <a:r>
              <a:rPr b="1" lang="en-US" sz="4400" spc="-1" strike="noStrike">
                <a:solidFill>
                  <a:srgbClr val="0000cc"/>
                </a:solidFill>
                <a:latin typeface="Arial Black"/>
                <a:ea typeface="SimHei"/>
              </a:rPr>
              <a:t>a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  <a:ea typeface="SimHei"/>
              </a:rPr>
              <a:t>r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  <a:ea typeface="SimHei"/>
              </a:rPr>
              <a:t>m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SimHei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念念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找出發音不同的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y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fl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happ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96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12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13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講出五個身體器官的英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43164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20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21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640" y="1484280"/>
            <a:ext cx="7400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問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ead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ad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兩個字的母音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嗎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讀讀看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告訴大家你的答案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5640" y="158436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84360" y="2736720"/>
            <a:ext cx="358560" cy="3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29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30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用屁股寫出抽到的單字卡，隊員需拼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單字並念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1647720"/>
            <a:ext cx="43164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37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38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從下列字中選出老師所念的字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d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3164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45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46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43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44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選出老師所念的是哪幾個單字？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3164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53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54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念出常見的商標名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圖片 3" descr="toyota.jpg"/>
          <p:cNvPicPr/>
          <p:nvPr/>
        </p:nvPicPr>
        <p:blipFill>
          <a:blip r:embed="rId2"/>
          <a:stretch/>
        </p:blipFill>
        <p:spPr>
          <a:xfrm>
            <a:off x="857160" y="2428920"/>
            <a:ext cx="2462400" cy="1895400"/>
          </a:xfrm>
          <a:prstGeom prst="rect">
            <a:avLst/>
          </a:prstGeom>
          <a:ln w="0">
            <a:noFill/>
          </a:ln>
        </p:spPr>
      </p:pic>
      <p:pic>
        <p:nvPicPr>
          <p:cNvPr id="160" name="圖片 4" descr="Motorola.jpg"/>
          <p:cNvPicPr/>
          <p:nvPr/>
        </p:nvPicPr>
        <p:blipFill>
          <a:blip r:embed="rId3"/>
          <a:stretch/>
        </p:blipFill>
        <p:spPr>
          <a:xfrm>
            <a:off x="3714840" y="2500200"/>
            <a:ext cx="2098440" cy="1714680"/>
          </a:xfrm>
          <a:prstGeom prst="rect">
            <a:avLst/>
          </a:prstGeom>
          <a:ln w="0">
            <a:noFill/>
          </a:ln>
        </p:spPr>
      </p:pic>
      <p:pic>
        <p:nvPicPr>
          <p:cNvPr id="161" name="圖片 5" descr="logo_nokia.gif"/>
          <p:cNvPicPr/>
          <p:nvPr/>
        </p:nvPicPr>
        <p:blipFill>
          <a:blip r:embed="rId4"/>
          <a:stretch/>
        </p:blipFill>
        <p:spPr>
          <a:xfrm>
            <a:off x="6072120" y="3071880"/>
            <a:ext cx="2589120" cy="714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539640" y="1773360"/>
            <a:ext cx="43200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64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65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講出圖片中有的動物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築物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植物…等。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至少三種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6193080" cy="3592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95280" y="1628640"/>
            <a:ext cx="43164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73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74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念出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utumn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並找出相對應的圖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Carol\AppData\Local\Microsoft\Windows\Temporary Internet Files\Content.IE5\YM41DOH5\MCj02978710000[1].wmf"/>
          <p:cNvPicPr/>
          <p:nvPr/>
        </p:nvPicPr>
        <p:blipFill>
          <a:blip r:embed="rId2"/>
          <a:stretch/>
        </p:blipFill>
        <p:spPr>
          <a:xfrm>
            <a:off x="500040" y="2714760"/>
            <a:ext cx="1803600" cy="1803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Carol\AppData\Local\Microsoft\Windows\Temporary Internet Files\Content.IE5\YM41DOH5\MCj02978490000[1].wmf"/>
          <p:cNvPicPr/>
          <p:nvPr/>
        </p:nvPicPr>
        <p:blipFill>
          <a:blip r:embed="rId3"/>
          <a:stretch/>
        </p:blipFill>
        <p:spPr>
          <a:xfrm>
            <a:off x="2571840" y="2714760"/>
            <a:ext cx="1803240" cy="1803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Carol\AppData\Local\Microsoft\Windows\Temporary Internet Files\Content.IE5\IAD9OD6Q\MCj02978590000[1].wmf"/>
          <p:cNvPicPr/>
          <p:nvPr/>
        </p:nvPicPr>
        <p:blipFill>
          <a:blip r:embed="rId4"/>
          <a:stretch/>
        </p:blipFill>
        <p:spPr>
          <a:xfrm>
            <a:off x="4714920" y="2714760"/>
            <a:ext cx="1803240" cy="1803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Users\Carol\AppData\Local\Microsoft\Windows\Temporary Internet Files\Content.IE5\QERD85O4\MCj03105180000[1].wmf"/>
          <p:cNvPicPr/>
          <p:nvPr/>
        </p:nvPicPr>
        <p:blipFill>
          <a:blip r:embed="rId5"/>
          <a:stretch/>
        </p:blipFill>
        <p:spPr>
          <a:xfrm>
            <a:off x="6786720" y="271476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11280" y="1700280"/>
            <a:ext cx="3603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85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86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選出母音不同的字母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603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93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94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16000" y="2276640"/>
            <a:ext cx="438120" cy="73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24000" y="2276640"/>
            <a:ext cx="486000" cy="736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59280" y="2205000"/>
            <a:ext cx="426960" cy="64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995640" y="2133720"/>
            <a:ext cx="465120" cy="66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003640" y="2060640"/>
            <a:ext cx="424080" cy="66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084720" y="2133720"/>
            <a:ext cx="390600" cy="591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916280"/>
            <a:ext cx="453960" cy="73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116000" y="3573360"/>
            <a:ext cx="415800" cy="592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835280" y="3645000"/>
            <a:ext cx="453960" cy="59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132000" y="3573360"/>
            <a:ext cx="414360" cy="590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2771640" y="3573360"/>
            <a:ext cx="352440" cy="59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140360" y="3500280"/>
            <a:ext cx="438120" cy="73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780000" y="3500280"/>
            <a:ext cx="438120" cy="73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6012000" y="3429000"/>
            <a:ext cx="438120" cy="73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64000" y="3429000"/>
            <a:ext cx="486000" cy="73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7164360" y="3429000"/>
            <a:ext cx="438120" cy="73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4932360" y="3429000"/>
            <a:ext cx="43812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7596360" y="3429000"/>
            <a:ext cx="465120" cy="66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6443640" y="3429000"/>
            <a:ext cx="426960" cy="647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65360" y="2924280"/>
            <a:ext cx="458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2133720"/>
            <a:ext cx="458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4292640"/>
            <a:ext cx="459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圖片 3" descr="C:\Users\Carol\AppData\Local\Microsoft\Windows\Temporary Internet Files\Content.IE5\IAD9OD6Q\MCj04272150000[1].wmf"/>
          <p:cNvPicPr/>
          <p:nvPr/>
        </p:nvPicPr>
        <p:blipFill>
          <a:blip r:embed="rId39"/>
          <a:stretch/>
        </p:blipFill>
        <p:spPr>
          <a:xfrm>
            <a:off x="3924360" y="260280"/>
            <a:ext cx="17352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念出歌詞片段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Row, row, row your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ently down the 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errily, merrily, merrily, merri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Life is but a dre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3164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01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02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從下列選項中找出含有長母音的字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5856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09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10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42960" y="29286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利用字母卡拼出老師所說的單字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58920" y="299736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17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18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ngue Twis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 big bug bit the little beetle ,but the lit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ug bit the big bu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95280" y="157320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28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29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28840" y="2565360"/>
            <a:ext cx="668664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利用字母卡拼出老師說的單字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36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37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47640" y="2205000"/>
            <a:ext cx="601920" cy="100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00360" y="2205000"/>
            <a:ext cx="627120" cy="951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2133720"/>
            <a:ext cx="579240" cy="87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0000" y="2205000"/>
            <a:ext cx="617760" cy="87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948360" y="2133720"/>
            <a:ext cx="608040" cy="950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692360" y="3573360"/>
            <a:ext cx="533160" cy="808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916360" y="3500280"/>
            <a:ext cx="542880" cy="87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211640" y="3573360"/>
            <a:ext cx="517680" cy="736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96000" y="3573360"/>
            <a:ext cx="565200" cy="73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877080" y="3645000"/>
            <a:ext cx="352440" cy="592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380360" y="3645000"/>
            <a:ext cx="414360" cy="590400"/>
          </a:xfrm>
          <a:prstGeom prst="rect">
            <a:avLst/>
          </a:prstGeom>
          <a:ln w="0">
            <a:noFill/>
          </a:ln>
        </p:spPr>
      </p:pic>
      <p:pic>
        <p:nvPicPr>
          <p:cNvPr id="82" name="圖片 5" descr="C:\Users\Carol\AppData\Local\Microsoft\Windows\Temporary Internet Files\Content.IE5\QERD85O4\MCj04272270000[1].wmf"/>
          <p:cNvPicPr/>
          <p:nvPr/>
        </p:nvPicPr>
        <p:blipFill>
          <a:blip r:embed="rId23"/>
          <a:stretch/>
        </p:blipFill>
        <p:spPr>
          <a:xfrm>
            <a:off x="3492360" y="728640"/>
            <a:ext cx="20876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注意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聽聽看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歌詞中有哪些我們學過的單字呢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！ ？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至少說出五個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04000" y="47242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971640" y="4897440"/>
            <a:ext cx="6476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68400" y="3209400"/>
            <a:ext cx="72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had a little la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had a little lamb Little lamb, little lamb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had a little lamb Its fleece was white as snow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verywhere that Mary went Mary went, Mary went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that Mary went, the lamb was sure to go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56160" y="885960"/>
            <a:ext cx="8006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t followed her to school one day School one day, school one day </a:t>
            </a:r>
            <a:br>
              <a:rPr sz="2000"/>
            </a:b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t followed her to school one day,That was against the rule </a:t>
            </a:r>
            <a:br>
              <a:rPr sz="2000"/>
            </a:b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t made the children laugh and play Laugh and play, laugh and play </a:t>
            </a:r>
            <a:br>
              <a:rPr sz="2000"/>
            </a:b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t made the children laugh and play To see a lamb at school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Why does the lamb love Mary so, Mary so, Mary so? </a:t>
            </a:r>
            <a:br>
              <a:rPr sz="2000"/>
            </a:b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Why does the lamb love Mary so? The eager children cry </a:t>
            </a:r>
            <a:br>
              <a:rPr sz="2000"/>
            </a:b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Why, Mary loves the lamb, you know lamb you know, lamb you know </a:t>
            </a:r>
            <a:br>
              <a:rPr sz="2000"/>
            </a:b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ary loves the lamb, you know, The teacher did reply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50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51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從字卡堆中找出老師所念出來的五個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字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58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59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標楷體"/>
              <a:ea typeface="標楷體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大接龍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至少接三個單字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ed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→                  →                    →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2708280"/>
            <a:ext cx="1656000" cy="9381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27640" y="2708280"/>
            <a:ext cx="1726920" cy="9367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2708280"/>
            <a:ext cx="1584360" cy="9367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69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70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用身體比出</a:t>
            </a: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HAPPY FARM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這兩個單字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39640" y="1574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77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78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11280" y="2060640"/>
            <a:ext cx="524160" cy="879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0360" y="2133720"/>
            <a:ext cx="531720" cy="806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40000" y="3429000"/>
            <a:ext cx="566640" cy="808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96000" y="2060640"/>
            <a:ext cx="628560" cy="95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284720" y="3429000"/>
            <a:ext cx="561960" cy="87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940360" y="3429000"/>
            <a:ext cx="579600" cy="879480"/>
          </a:xfrm>
          <a:prstGeom prst="rect">
            <a:avLst/>
          </a:prstGeom>
          <a:ln w="0">
            <a:noFill/>
          </a:ln>
        </p:spPr>
      </p:pic>
      <p:pic>
        <p:nvPicPr>
          <p:cNvPr id="90" name="圖片 1" descr="C:\Users\Carol\AppData\Local\Microsoft\Windows\Temporary Internet Files\Content.IE5\IAD9OD6Q\MCj04272210000[1].wmf"/>
          <p:cNvPicPr/>
          <p:nvPr/>
        </p:nvPicPr>
        <p:blipFill>
          <a:blip r:embed="rId13"/>
          <a:stretch/>
        </p:blipFill>
        <p:spPr>
          <a:xfrm>
            <a:off x="3924360" y="476280"/>
            <a:ext cx="1519200" cy="1620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念出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kite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並從下列各圖中找出相對應的圖示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C:\Users\Carol\AppData\Local\Microsoft\Windows\Temporary Internet Files\Content.IE5\QERD85O4\MCj03407340000[1].wmf"/>
          <p:cNvPicPr/>
          <p:nvPr/>
        </p:nvPicPr>
        <p:blipFill>
          <a:blip r:embed="rId2"/>
          <a:stretch/>
        </p:blipFill>
        <p:spPr>
          <a:xfrm>
            <a:off x="928800" y="3143160"/>
            <a:ext cx="1801800" cy="1486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Carol\AppData\Local\Microsoft\Windows\Temporary Internet Files\Content.IE5\GM8U0J2N\MCj02810710000[1].wmf"/>
          <p:cNvPicPr/>
          <p:nvPr/>
        </p:nvPicPr>
        <p:blipFill>
          <a:blip r:embed="rId3"/>
          <a:stretch/>
        </p:blipFill>
        <p:spPr>
          <a:xfrm>
            <a:off x="3571920" y="3071880"/>
            <a:ext cx="2336760" cy="1714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Carol\AppData\Local\Microsoft\Windows\Temporary Internet Files\Content.IE5\GM8U0J2N\MCj02294370000[1].wmf"/>
          <p:cNvPicPr/>
          <p:nvPr/>
        </p:nvPicPr>
        <p:blipFill>
          <a:blip r:embed="rId4"/>
          <a:stretch/>
        </p:blipFill>
        <p:spPr>
          <a:xfrm>
            <a:off x="6715080" y="2857680"/>
            <a:ext cx="1306440" cy="18144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468360" y="177336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288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289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誰是誰呢</a:t>
            </a: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?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A)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B)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C) 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D) 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E) gi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F) p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1885680" cy="1305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68360" y="2708280"/>
            <a:ext cx="976320" cy="1657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340000" y="2997360"/>
            <a:ext cx="1657440" cy="1234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2627280" y="4724280"/>
            <a:ext cx="1181160" cy="1473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324000" y="501336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395280" y="1484280"/>
            <a:ext cx="17272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302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303" name="圖片 5" descr="C:\Users\Carol\AppData\Local\Microsoft\Windows\Temporary Internet Files\Content.IE5\QERD85O4\MCj04272270000[1].wmf"/>
          <p:cNvPicPr/>
          <p:nvPr/>
        </p:nvPicPr>
        <p:blipFill>
          <a:blip r:embed="rId6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聲公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4360" y="4855320"/>
            <a:ext cx="2411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1413000"/>
            <a:ext cx="2952720" cy="2447640"/>
          </a:xfrm>
          <a:prstGeom prst="irregularSeal1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1341360"/>
            <a:ext cx="3168720" cy="251928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92720" y="4149720"/>
            <a:ext cx="3097080" cy="1440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77080" y="1773360"/>
            <a:ext cx="1727280" cy="1871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3933720"/>
            <a:ext cx="2950920" cy="21592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6000" y="2349360"/>
            <a:ext cx="1368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1989000"/>
            <a:ext cx="165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2492280"/>
            <a:ext cx="115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4437000"/>
            <a:ext cx="194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圖片 1" descr="C:\Users\Carol\AppData\Local\Microsoft\Windows\Temporary Internet Files\Content.IE5\IAD9OD6Q\MCj04272210000[1].wmf"/>
          <p:cNvPicPr/>
          <p:nvPr/>
        </p:nvPicPr>
        <p:blipFill>
          <a:blip r:embed="rId2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318" name="圖片 3" descr="C:\Users\Carol\AppData\Local\Microsoft\Windows\Temporary Internet Files\Content.IE5\IAD9OD6Q\MCj04272150000[1].wmf"/>
          <p:cNvPicPr/>
          <p:nvPr/>
        </p:nvPicPr>
        <p:blipFill>
          <a:blip r:embed="rId3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319" name="圖片 5" descr="C:\Users\Carol\AppData\Local\Microsoft\Windows\Temporary Internet Files\Content.IE5\QERD85O4\MCj04272270000[1].wmf"/>
          <p:cNvPicPr/>
          <p:nvPr/>
        </p:nvPicPr>
        <p:blipFill>
          <a:blip r:embed="rId4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  <a:ea typeface="標楷體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 Black"/>
                <a:ea typeface="標楷體"/>
              </a:rPr>
              <a:t>Tongue Tw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ig black bear sat on a big black bug.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big black bug bit a big black bear and made the big black bear bleed blood.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 big black bug bit a big black dog on his big black nose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209520" cy="2286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68360" y="1773360"/>
            <a:ext cx="209520" cy="2286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468360" y="4508640"/>
            <a:ext cx="2095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圖片 1" descr="C:\Users\Carol\AppData\Local\Microsoft\Windows\Temporary Internet Files\Content.IE5\IAD9OD6Q\MCj04272210000[1].wmf"/>
          <p:cNvPicPr/>
          <p:nvPr/>
        </p:nvPicPr>
        <p:blipFill>
          <a:blip r:embed="rId2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332" name="圖片 3" descr="C:\Users\Carol\AppData\Local\Microsoft\Windows\Temporary Internet Files\Content.IE5\IAD9OD6Q\MCj04272150000[1].wmf"/>
          <p:cNvPicPr/>
          <p:nvPr/>
        </p:nvPicPr>
        <p:blipFill>
          <a:blip r:embed="rId3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333" name="圖片 5" descr="C:\Users\Carol\AppData\Local\Microsoft\Windows\Temporary Internet Files\Content.IE5\QERD85O4\MCj04272270000[1].wmf"/>
          <p:cNvPicPr/>
          <p:nvPr/>
        </p:nvPicPr>
        <p:blipFill>
          <a:blip r:embed="rId4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根據聽到的音重組字彙並說出意思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800000"/>
                </a:solidFill>
                <a:latin typeface="Arial"/>
              </a:rPr>
              <a:t>u</a:t>
            </a: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5400" spc="-1" strike="noStrike">
                <a:solidFill>
                  <a:srgbClr val="0066cc"/>
                </a:solidFill>
                <a:latin typeface="Arial"/>
              </a:rPr>
              <a:t>s</a:t>
            </a: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54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54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5400" spc="-1" strike="noStrike">
                <a:solidFill>
                  <a:srgbClr val="ff9900"/>
                </a:solidFill>
                <a:latin typeface="Arial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圖片 1" descr="C:\Users\Carol\AppData\Local\Microsoft\Windows\Temporary Internet Files\Content.IE5\IAD9OD6Q\MCj04272210000[1].wmf"/>
          <p:cNvPicPr/>
          <p:nvPr/>
        </p:nvPicPr>
        <p:blipFill>
          <a:blip r:embed="rId2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340" name="圖片 3" descr="C:\Users\Carol\AppData\Local\Microsoft\Windows\Temporary Internet Files\Content.IE5\IAD9OD6Q\MCj04272150000[1].wmf"/>
          <p:cNvPicPr/>
          <p:nvPr/>
        </p:nvPicPr>
        <p:blipFill>
          <a:blip r:embed="rId3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341" name="圖片 5" descr="C:\Users\Carol\AppData\Local\Microsoft\Windows\Temporary Internet Files\Content.IE5\QERD85O4\MCj04272270000[1].wmf"/>
          <p:cNvPicPr/>
          <p:nvPr/>
        </p:nvPicPr>
        <p:blipFill>
          <a:blip r:embed="rId4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標楷體"/>
              <a:ea typeface="標楷體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念念看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找出母音不同的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602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Arial Black"/>
                <a:ea typeface="標楷體"/>
              </a:rPr>
              <a:t>Tongue Twister</a:t>
            </a:r>
            <a:r>
              <a:rPr b="0" lang="zh-TW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0" lang="zh-TW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繞口令時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50560" y="1916280"/>
            <a:ext cx="687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Arial"/>
              </a:rPr>
              <a:t>Nine nice night nurses nursing nic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圖片 1" descr="C:\Users\Carol\AppData\Local\Microsoft\Windows\Temporary Internet Files\Content.IE5\IAD9OD6Q\MCj04272210000[1].wmf"/>
          <p:cNvPicPr/>
          <p:nvPr/>
        </p:nvPicPr>
        <p:blipFill>
          <a:blip r:embed="rId2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348" name="圖片 3" descr="C:\Users\Carol\AppData\Local\Microsoft\Windows\Temporary Internet Files\Content.IE5\IAD9OD6Q\MCj04272150000[1].wmf"/>
          <p:cNvPicPr/>
          <p:nvPr/>
        </p:nvPicPr>
        <p:blipFill>
          <a:blip r:embed="rId3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349" name="圖片 5" descr="C:\Users\Carol\AppData\Local\Microsoft\Windows\Temporary Internet Files\Content.IE5\QERD85O4\MCj04272270000[1].wmf"/>
          <p:cNvPicPr/>
          <p:nvPr/>
        </p:nvPicPr>
        <p:blipFill>
          <a:blip r:embed="rId4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迷路囉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ep                        s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1657440" cy="1515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1828800" cy="151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4500720" y="1557360"/>
            <a:ext cx="1120680" cy="1135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826920" y="2852640"/>
            <a:ext cx="11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76360" y="5445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圖片 1" descr="C:\Users\Carol\AppData\Local\Microsoft\Windows\Temporary Internet Files\Content.IE5\IAD9OD6Q\MCj04272210000[1].wmf"/>
          <p:cNvPicPr/>
          <p:nvPr/>
        </p:nvPicPr>
        <p:blipFill>
          <a:blip r:embed="rId2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360" name="圖片 3" descr="C:\Users\Carol\AppData\Local\Microsoft\Windows\Temporary Internet Files\Content.IE5\IAD9OD6Q\MCj04272150000[1].wmf"/>
          <p:cNvPicPr/>
          <p:nvPr/>
        </p:nvPicPr>
        <p:blipFill>
          <a:blip r:embed="rId3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361" name="圖片 5" descr="C:\Users\Carol\AppData\Local\Microsoft\Windows\Temporary Internet Files\Content.IE5\QERD85O4\MCj04272270000[1].wmf"/>
          <p:cNvPicPr/>
          <p:nvPr/>
        </p:nvPicPr>
        <p:blipFill>
          <a:blip r:embed="rId4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Arial Black"/>
              </a:rPr>
              <a:t>Tongue Twister</a:t>
            </a:r>
            <a:r>
              <a:rPr b="0" lang="zh-TW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繞口令時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3200" spc="-1" strike="noStrike">
                <a:solidFill>
                  <a:srgbClr val="000099"/>
                </a:solidFill>
                <a:latin typeface="Arial"/>
              </a:rPr>
              <a:t>A good cook could cook as much cookies as a good cook who could cook coo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圖片 1" descr="C:\Users\Carol\AppData\Local\Microsoft\Windows\Temporary Internet Files\Content.IE5\IAD9OD6Q\MCj04272210000[1].wmf"/>
          <p:cNvPicPr/>
          <p:nvPr/>
        </p:nvPicPr>
        <p:blipFill>
          <a:blip r:embed="rId2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367" name="圖片 3" descr="C:\Users\Carol\AppData\Local\Microsoft\Windows\Temporary Internet Files\Content.IE5\IAD9OD6Q\MCj04272150000[1].wmf"/>
          <p:cNvPicPr/>
          <p:nvPr/>
        </p:nvPicPr>
        <p:blipFill>
          <a:blip r:embed="rId3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368" name="圖片 5" descr="C:\Users\Carol\AppData\Local\Microsoft\Windows\Temporary Internet Files\Content.IE5\QERD85O4\MCj04272270000[1].wmf"/>
          <p:cNvPicPr/>
          <p:nvPr/>
        </p:nvPicPr>
        <p:blipFill>
          <a:blip r:embed="rId4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到你囉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1916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627280" y="1628640"/>
            <a:ext cx="1800360" cy="7207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51640" y="1700280"/>
            <a:ext cx="20890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28000" y="213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1280" y="2852640"/>
            <a:ext cx="1871640" cy="8654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43280" y="321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24360" y="2781360"/>
            <a:ext cx="2087640" cy="9367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9640" y="4221000"/>
            <a:ext cx="2016360" cy="7923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11640" y="4365720"/>
            <a:ext cx="1942920" cy="8636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6360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圖片 1" descr="C:\Users\Carol\AppData\Local\Microsoft\Windows\Temporary Internet Files\Content.IE5\IAD9OD6Q\MCj04272210000[1].wmf"/>
          <p:cNvPicPr/>
          <p:nvPr/>
        </p:nvPicPr>
        <p:blipFill>
          <a:blip r:embed="rId2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387" name="圖片 3" descr="C:\Users\Carol\AppData\Local\Microsoft\Windows\Temporary Internet Files\Content.IE5\IAD9OD6Q\MCj04272150000[1].wmf"/>
          <p:cNvPicPr/>
          <p:nvPr/>
        </p:nvPicPr>
        <p:blipFill>
          <a:blip r:embed="rId3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388" name="圖片 5" descr="C:\Users\Carol\AppData\Local\Microsoft\Windows\Temporary Internet Files\Content.IE5\QERD85O4\MCj04272270000[1].wmf"/>
          <p:cNvPicPr/>
          <p:nvPr/>
        </p:nvPicPr>
        <p:blipFill>
          <a:blip r:embed="rId4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96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97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314172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在教室內找出五個物品並用英文念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29700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圖片 1" descr="C:\Users\Carol\AppData\Local\Microsoft\Windows\Temporary Internet Files\Content.IE5\IAD9OD6Q\MCj0427221000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2492280"/>
            <a:ext cx="1341360" cy="1432080"/>
          </a:xfrm>
          <a:prstGeom prst="rect">
            <a:avLst/>
          </a:prstGeom>
          <a:ln w="0">
            <a:noFill/>
          </a:ln>
        </p:spPr>
      </p:pic>
      <p:pic>
        <p:nvPicPr>
          <p:cNvPr id="104" name="圖片 3" descr="C:\Users\Carol\AppData\Local\Microsoft\Windows\Temporary Internet Files\Content.IE5\IAD9OD6Q\MCj0427215000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2000" y="2492280"/>
            <a:ext cx="1511280" cy="1319400"/>
          </a:xfrm>
          <a:prstGeom prst="rect">
            <a:avLst/>
          </a:prstGeom>
          <a:ln w="0">
            <a:noFill/>
          </a:ln>
        </p:spPr>
      </p:pic>
      <p:pic>
        <p:nvPicPr>
          <p:cNvPr id="105" name="圖片 5" descr="C:\Users\Carol\AppData\Local\Microsoft\Windows\Temporary Internet Files\Content.IE5\QERD85O4\MCj04272270000[1]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19640" y="2565360"/>
            <a:ext cx="2304720" cy="1457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hoose one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5:42:37Z</dcterms:created>
  <dc:creator>Grace Cheng</dc:creator>
  <dc:description/>
  <dc:language>en-US</dc:language>
  <cp:lastModifiedBy>SP3-08</cp:lastModifiedBy>
  <dcterms:modified xsi:type="dcterms:W3CDTF">2009-10-14T03:58:50Z</dcterms:modified>
  <cp:revision>57</cp:revision>
  <dc:subject/>
  <dc:title>投影片 1</dc:title>
</cp:coreProperties>
</file>