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084-942A-45BA-A5FE-6D66008B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3D8-ABE2-4372-951D-F1E30E09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B98-425B-4B0C-A8EE-DEC81F05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7DA-F0E5-49DA-9855-25BE5D2A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B04C-4A05-4485-B97D-107F33D5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12EC-FA5D-4D8B-A4E2-0844BCFC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3DE3-A539-4BCC-9525-FDF253B0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67F2-3965-481F-80D7-BC38C4F9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223E-FD31-4E0E-BD0A-93A76041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F449-0F03-4182-8B1F-3FAD1E5C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D64A-3A78-43F7-B21A-B1119775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019-2F43-499A-808E-15CCFE41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FDDA-4794-4A35-A483-58A7B71A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97DA-715B-44EC-A284-F89DFA72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C067-7271-4956-B4A0-EC12EED8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5ADF-8D70-4F5C-83CD-B0C57B32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DB44-6FD0-4916-B4A9-C73A534C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295-918D-4F68-A5C4-CE40F7C5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905-4035-4F4E-B4EE-CE85CDCF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5E2-1BC6-425C-8A98-B46C8760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C50-8510-4D74-AA95-47712361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F75-E40B-499C-84B9-BCDB4EDF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5A4-166B-4650-B309-617D2BE8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F84-6461-4469-88B2-3CA125F9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27D2-0994-4747-B276-8066F1D9BCE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03C6-9A01-4346-A340-59D2A9C35A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5.xml"/><Relationship Id="rId8" Type="http://schemas.openxmlformats.org/officeDocument/2006/relationships/slide" Target="slide36.xml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37.xml"/><Relationship Id="rId6" Type="http://schemas.openxmlformats.org/officeDocument/2006/relationships/slide" Target="slide38.xml"/><Relationship Id="rId7" Type="http://schemas.openxmlformats.org/officeDocument/2006/relationships/slide" Target="slide39.xml"/><Relationship Id="rId8" Type="http://schemas.openxmlformats.org/officeDocument/2006/relationships/slide" Target="slide40.xml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41.xml"/><Relationship Id="rId6" Type="http://schemas.openxmlformats.org/officeDocument/2006/relationships/slide" Target="slide42.xml"/><Relationship Id="rId7" Type="http://schemas.openxmlformats.org/officeDocument/2006/relationships/slide" Target="slide43.xml"/><Relationship Id="rId8" Type="http://schemas.openxmlformats.org/officeDocument/2006/relationships/slide" Target="slide44.xml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45.xml"/><Relationship Id="rId6" Type="http://schemas.openxmlformats.org/officeDocument/2006/relationships/slide" Target="slide46.xml"/><Relationship Id="rId7" Type="http://schemas.openxmlformats.org/officeDocument/2006/relationships/slide" Target="slide47.xml"/><Relationship Id="rId8" Type="http://schemas.openxmlformats.org/officeDocument/2006/relationships/slide" Target="slide48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" Target="slide49.xml"/><Relationship Id="rId6" Type="http://schemas.openxmlformats.org/officeDocument/2006/relationships/slide" Target="slide50.xml"/><Relationship Id="rId7" Type="http://schemas.openxmlformats.org/officeDocument/2006/relationships/slide" Target="slide51.xml"/><Relationship Id="rId8" Type="http://schemas.openxmlformats.org/officeDocument/2006/relationships/slide" Target="slide52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53.xml"/><Relationship Id="rId6" Type="http://schemas.openxmlformats.org/officeDocument/2006/relationships/slide" Target="slide54.xml"/><Relationship Id="rId7" Type="http://schemas.openxmlformats.org/officeDocument/2006/relationships/slide" Target="slide55.xml"/><Relationship Id="rId8" Type="http://schemas.openxmlformats.org/officeDocument/2006/relationships/slide" Target="slide56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33"/>
                </a:solidFill>
                <a:latin typeface="Garamond"/>
                <a:ea typeface="標楷體"/>
              </a:rPr>
              <a:t>百萬中學堂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-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! Our teacher ______ (danc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autifully ther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d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d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is d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are d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-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r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正在騎腳踏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ra ______ a bike n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　　　　　　　　　　　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is rid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-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安靜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!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小寶寶正在睡覺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~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iet! The baby ______ (sleep) n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is slee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校慶要來了，所以學生們都感到很興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chool festival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校慶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________ (come), so the students feel very excit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is co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-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bother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打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him. He ______ (eat) dinner n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is e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-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現在正在下雨，別忘了帶傘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______ now. Don’t forget your umbrel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is rain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-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______ (sing) and ______ (play) games happily at the party . They have a good tim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singing; play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_______ a birthday card to Ms. Cha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don’t have her addres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send                   (B) doesn’t send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can send            (D) can’t s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lie likes dogs, but Sam 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doesn’t like         (B) doesn’t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don’t like             (D) lik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你不能在博物館吃東西喝飲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填入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______ drink or eat in the muse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can 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63280" y="836280"/>
            <a:ext cx="273204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1" action="ppaction://hlinksldjump"/>
              </a:rPr>
              <a:t>現在進行式</a:t>
            </a: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2" action="ppaction://hlinksldjump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3" action="ppaction://hlinksldjump"/>
              </a:rPr>
              <a:t>否定句</a:t>
            </a: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4" action="ppaction://hlinksldjump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5" action="ppaction://hlinksldjump"/>
              </a:rPr>
              <a:t>過去式</a:t>
            </a: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6" action="ppaction://hlinksldjump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836640"/>
            <a:ext cx="40384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7" action="ppaction://hlinksldjump"/>
              </a:rPr>
              <a:t>現在進行式</a:t>
            </a: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8" action="ppaction://hlinksldjump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9" action="ppaction://hlinksldjump"/>
              </a:rPr>
              <a:t>否定句</a:t>
            </a: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10" action="ppaction://hlinksldjump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11" action="ppaction://hlinksldjump"/>
              </a:rPr>
              <a:t>過去式</a:t>
            </a: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12" action="ppaction://hlinksldjump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hn ______ play basketball, but his brother, Tom, plays basketbal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do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don’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doesn’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hing in the box __________ (not feel) soft. It feels h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doesn’t f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我沒有哥哥，但我有兩個妹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_____ a brother. I _____ two sisters. (ha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don’t have; ha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我肚子不餓，不吃晚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_______ (be V) hungry, so I _______ (eat) dinn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am not; don’t e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y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昨天沒有寫作業，所以她媽媽生氣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y ______ (do homework) yesterday, so her mother was ang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didn’t do ho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______ table tennis for one hour yesterd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pl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pl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will pl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play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______ ice cream, but she likes it n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didn’t li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don’t li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doesn’t li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won’t li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______ very happy because it was co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 wee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w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it was sunny, we went on a picnic 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omor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in the ev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next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last Sun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______ football everyday, but he ______ baseball yesterda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plays; pl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play; pl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played; pl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plays; play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0920" y="1700280"/>
            <a:ext cx="22320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1" action="ppaction://hlinksldjump"/>
              </a:rPr>
              <a:t>第一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2" action="ppaction://hlinksldjump"/>
              </a:rPr>
              <a:t>第二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3" action="ppaction://hlinksldjump"/>
              </a:rPr>
              <a:t>第三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4" action="ppaction://hlinksldjump"/>
              </a:rPr>
              <a:t>第四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932360" y="1700280"/>
            <a:ext cx="2232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5" action="ppaction://hlinksldjump"/>
              </a:rPr>
              <a:t>第一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6" action="ppaction://hlinksldjump"/>
              </a:rPr>
              <a:t>第二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7" action="ppaction://hlinksldjump"/>
              </a:rPr>
              <a:t>第三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8" action="ppaction://hlinksldjump"/>
              </a:rPr>
              <a:t>第四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______ a big dinner on Christmas. I ______ it very mu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had/ate; lik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kid ______ bad. After tak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bath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洗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he ______ good now. (smel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smelled; sm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is eating a lot of ice cream in the classroom.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改為過去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She ate a lot of ice cream in the classro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girlfriend ______ (read) over there now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is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re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is re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atching a baseball game on TV n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are   (2) was  (3) were  (4)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: What are you do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: I’m writing my homework 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every day  (2) tomor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3) now           (4) yester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ra and Mary ____  _____ a bike n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are riding   (2) is ri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3) are ride      (4) are 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(put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flowers into the v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她正在把花放進花瓶中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is put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uy) oranges in the fruit st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我正在水果店裡買橘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buy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d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ly)  a kite  with her classmate at the park n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dy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現在正在和同學在公園放風箏。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fly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0920" y="1700280"/>
            <a:ext cx="22320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1" action="ppaction://hlinksldjump"/>
              </a:rPr>
              <a:t>第一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2" action="ppaction://hlinksldjump"/>
              </a:rPr>
              <a:t>第二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3" action="ppaction://hlinksldjump"/>
              </a:rPr>
              <a:t>第三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4" action="ppaction://hlinksldjump"/>
              </a:rPr>
              <a:t>第四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932360" y="1700280"/>
            <a:ext cx="2232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5" action="ppaction://hlinksldjump"/>
              </a:rPr>
              <a:t>第一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6" action="ppaction://hlinksldjump"/>
              </a:rPr>
              <a:t>第二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7" action="ppaction://hlinksldjump"/>
              </a:rPr>
              <a:t>第三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8" action="ppaction://hlinksldjump"/>
              </a:rPr>
              <a:t>第四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than twenty worker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 (work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 that fact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are wo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ke my bookbag because it is dir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does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not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am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do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(1)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houl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(2)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(3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(4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a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 at sch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ot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應該放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oy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(1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(2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ing computer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(3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ot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應該放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y likes to read books, but I 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doesn’t like         (B) don’t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don’t like             (D) don’t li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ke his Chinese teacher very mu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does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are ugly n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改為否定句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You are not ugly n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: Do you like to learn Englis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: No, I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do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can play baseball we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改為否定句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She can not play baseball we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:Where did you buy this dres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:I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uy it. My sister gave it to me two day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don’t  (B) didn’t (C) doesn’t  (D)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0920" y="1700280"/>
            <a:ext cx="22320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1" action="ppaction://hlinksldjump"/>
              </a:rPr>
              <a:t>第一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2" action="ppaction://hlinksldjump"/>
              </a:rPr>
              <a:t>第二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3" action="ppaction://hlinksldjump"/>
              </a:rPr>
              <a:t>第三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4" action="ppaction://hlinksldjump"/>
              </a:rPr>
              <a:t>第四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932360" y="1700280"/>
            <a:ext cx="2232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5" action="ppaction://hlinksldjump"/>
              </a:rPr>
              <a:t>第一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6" action="ppaction://hlinksldjump"/>
              </a:rPr>
              <a:t>第二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7" action="ppaction://hlinksldjump"/>
              </a:rPr>
              <a:t>第三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8" action="ppaction://hlinksldjump"/>
              </a:rPr>
              <a:t>第四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______ so sad because she didn’t do well on the test  yesterda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w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ff ______ fried rice three years ago, but he hates it n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didn’t 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don’t 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doesn’t 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won’t 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-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singer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pular ten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w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 (do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omework at home last n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我昨晚在家中沒做作業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did do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lowers ______ (be V) for you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d you lik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w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grandma and grandp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e V.) classmates forty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w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-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brother and I study in Jap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請改為過去式並加上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years ag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My brother and I studied in Japan two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否定句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0920" y="1700280"/>
            <a:ext cx="22320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1" action="ppaction://hlinksldjump"/>
              </a:rPr>
              <a:t>第一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2" action="ppaction://hlinksldjump"/>
              </a:rPr>
              <a:t>第二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3" action="ppaction://hlinksldjump"/>
              </a:rPr>
              <a:t>第三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4" action="ppaction://hlinksldjump"/>
              </a:rPr>
              <a:t>第四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932360" y="1700280"/>
            <a:ext cx="2232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5" action="ppaction://hlinksldjump"/>
              </a:rPr>
              <a:t>第一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6" action="ppaction://hlinksldjump"/>
              </a:rPr>
              <a:t>第二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7" action="ppaction://hlinksldjump"/>
              </a:rPr>
              <a:t>第三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8" action="ppaction://hlinksldjump"/>
              </a:rPr>
              <a:t>第四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920" y="1700280"/>
            <a:ext cx="22320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1" action="ppaction://hlinksldjump"/>
              </a:rPr>
              <a:t>第一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2" action="ppaction://hlinksldjump"/>
              </a:rPr>
              <a:t>第二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3" action="ppaction://hlinksldjump"/>
              </a:rPr>
              <a:t>第三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4" action="ppaction://hlinksldjump"/>
              </a:rPr>
              <a:t>第四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932360" y="1700280"/>
            <a:ext cx="2232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5" action="ppaction://hlinksldjump"/>
              </a:rPr>
              <a:t>第一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6" action="ppaction://hlinksldjump"/>
              </a:rPr>
              <a:t>第二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7" action="ppaction://hlinksldjump"/>
              </a:rPr>
              <a:t>第三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8" action="ppaction://hlinksldjump"/>
              </a:rPr>
              <a:t>第四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過去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B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0920" y="1700280"/>
            <a:ext cx="22320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1" action="ppaction://hlinksldjump"/>
              </a:rPr>
              <a:t>第一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2" action="ppaction://hlinksldjump"/>
              </a:rPr>
              <a:t>第二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3" action="ppaction://hlinksldjump"/>
              </a:rPr>
              <a:t>第三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4" action="ppaction://hlinksldjump"/>
              </a:rPr>
              <a:t>第四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932360" y="1700280"/>
            <a:ext cx="2232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5" action="ppaction://hlinksldjump"/>
              </a:rPr>
              <a:t>第一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6" action="ppaction://hlinksldjump"/>
              </a:rPr>
              <a:t>第二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7" action="ppaction://hlinksldjump"/>
              </a:rPr>
              <a:t>第三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996600"/>
                </a:solidFill>
                <a:uFillTx/>
                <a:latin typeface="Arial"/>
                <a:ea typeface="標楷體"/>
                <a:hlinkClick r:id="rId8" action="ppaction://hlinksldjump"/>
              </a:rPr>
              <a:t>第四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標楷體"/>
              </a:rPr>
              <a:t>G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  <a:ea typeface="標楷體"/>
              </a:rPr>
              <a:t>現在進行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_____ (watch) a baseball game now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do wat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can wat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are watch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will watc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(C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Back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4:07:49Z</dcterms:created>
  <dc:creator>nc</dc:creator>
  <dc:description/>
  <dc:language>en-US</dc:language>
  <cp:lastModifiedBy>nc</cp:lastModifiedBy>
  <dcterms:modified xsi:type="dcterms:W3CDTF">2009-10-14T16:56:57Z</dcterms:modified>
  <cp:revision>91</cp:revision>
  <dc:subject/>
  <dc:title>Group 1</dc:title>
</cp:coreProperties>
</file>