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514-9893-4E40-B7A9-ED5B1DA8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778-8498-418E-A477-351BC588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660-7137-41B5-89C8-05D88B46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EEE-A14E-42C6-9567-F643C0C6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FF0-2D7A-4935-809F-43FEE090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303-9E05-44D0-A4C8-55647D94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448-80FE-4CEB-A105-61718E6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AED-4D9F-479D-BA29-56DCA6C1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180-4A05-4504-8815-B09B3D54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B0F-7BEB-463D-A67F-5CF4781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817-2BA8-474F-B995-6F09DB0F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80C-3ECC-496C-A518-E5FE8C42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BB4F-ACF0-4BF7-9B71-5AC434F089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28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0080" y="2143080"/>
            <a:ext cx="7143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標楷體"/>
                <a:ea typeface="標楷體"/>
              </a:rPr>
              <a:t>百 萬 中 學 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否定句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______ play basketball, but his brother, Tom, plays basketba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d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標楷體"/>
              </a:rPr>
              <a:t>but 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  <a:ea typeface="標楷體"/>
              </a:rPr>
              <a:t>前後相反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標楷體"/>
              </a:rPr>
              <a:t>;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  <a:ea typeface="標楷體"/>
              </a:rPr>
              <a:t>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第三人稱助動詞用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標楷體"/>
              </a:rPr>
              <a:t>do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否定句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我肚子不餓，不吃晚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_______ (be V) hungry, so I _______ (eat) din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解析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am not; don’t e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否定句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y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昨天沒有寫作業，所以她媽媽生氣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y ______ ______ 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 homework) yesterday, so her mother was ang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Calibri"/>
              </a:rPr>
              <a:t>昨天沒有用過去式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“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did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not”; 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</a:rPr>
              <a:t>後面的照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didn’t do home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過去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it was sunny, we went on a picnic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 in the ev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next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 last Su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標楷體"/>
              </a:rPr>
              <a:t>was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和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標楷體"/>
              </a:rPr>
              <a:t>went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為過去時間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(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過去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ell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填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d ______ bad. After tak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th 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洗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he ______ good n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Calibri"/>
                <a:ea typeface="標楷體"/>
              </a:rPr>
              <a:t>過去式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-ed; 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  <a:ea typeface="標楷體"/>
              </a:rPr>
              <a:t>現在式、第三人稱單數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-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smelled; sme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過去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eating a lot of ice cream in the classroom.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改為過去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Calibri"/>
                <a:ea typeface="標楷體"/>
              </a:rPr>
              <a:t>注意動詞變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She ate a lot of ice cream in the classro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2060640"/>
            <a:ext cx="144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現在進行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安靜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!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小寶寶正在睡覺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et! The baby ______ (sleep)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now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</a:rPr>
              <a:t>”</a:t>
            </a:r>
            <a:r>
              <a:rPr b="0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  <a:ea typeface="標楷體"/>
              </a:rPr>
              <a:t>現在進行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is sleep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現在進行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______ (sing) and ______ (play) games happily at the party . They have a good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Calibri"/>
                <a:ea typeface="標楷體"/>
              </a:rPr>
              <a:t>現在進行式：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beV + 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singing; play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現在進行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現在正在下雨，別忘了帶傘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______ now. Don’t forget your umbrel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“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正在</a:t>
            </a: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”</a:t>
            </a:r>
            <a:r>
              <a:rPr b="0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現在進行式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beV + 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is rai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未 來 式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ill rain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 yeste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las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 next 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未來式</a:t>
            </a: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未來時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785840" y="1499760"/>
            <a:ext cx="403884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2" action="ppaction://hlinksldjump"/>
              </a:rPr>
              <a:t>未來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3" action="ppaction://hlinksldjump"/>
              </a:rPr>
              <a:t>yes-no </a:t>
            </a:r>
            <a:r>
              <a:rPr b="0" lang="zh-TW" sz="26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4" action="ppaction://hlinksldjump"/>
              </a:rPr>
              <a:t>問句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5" action="ppaction://hlinksldjump"/>
              </a:rPr>
              <a:t>wh</a:t>
            </a:r>
            <a:r>
              <a:rPr b="0" lang="en-US" sz="26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6" action="ppaction://hlinksldjump"/>
              </a:rPr>
              <a:t>-</a:t>
            </a:r>
            <a:r>
              <a:rPr b="0" lang="zh-TW" sz="26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7" action="ppaction://hlinksldjump"/>
              </a:rPr>
              <a:t>問句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28840" y="1500120"/>
            <a:ext cx="273204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ad1f1f"/>
                </a:solidFill>
                <a:uFillTx/>
                <a:latin typeface="Arial"/>
                <a:ea typeface="標楷體"/>
                <a:hlinkClick r:id="rId8" action="ppaction://hlinksldjump"/>
              </a:rPr>
              <a:t>否定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9" action="ppaction://hlinksldjump"/>
              </a:rPr>
              <a:t>現在進行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10" action="ppaction://hlinksldjump"/>
              </a:rPr>
              <a:t>過去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未 來 式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他們將在韓國待六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______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pend) six days in Ko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　　　　　　　　「將」</a:t>
            </a:r>
            <a:r>
              <a:rPr b="0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zh-TW" sz="2600" spc="-1" strike="noStrike">
                <a:solidFill>
                  <a:srgbClr val="008000"/>
                </a:solidFill>
                <a:latin typeface="新細明體"/>
              </a:rPr>
              <a:t>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未來式</a:t>
            </a:r>
            <a:r>
              <a:rPr b="0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zh-TW" sz="2600" spc="-1" strike="noStrike">
                <a:solidFill>
                  <a:srgbClr val="008000"/>
                </a:solidFill>
                <a:latin typeface="新細明體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will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+</a:t>
            </a: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原形動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未 來 式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we go on a picnic next Mon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填入適當的助動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next Monday</a:t>
            </a:r>
            <a:r>
              <a:rPr b="0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zh-TW" sz="2600" spc="-1" strike="noStrike">
                <a:solidFill>
                  <a:srgbClr val="008000"/>
                </a:solidFill>
                <a:latin typeface="Calibri"/>
                <a:ea typeface="標楷體"/>
              </a:rPr>
              <a:t>未來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yes-no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room is still dirty. _____ you clea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D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解析</a:t>
            </a: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(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yes-no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ie: ________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irl’s legs shor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sie:  Yes, ____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原直述句</a:t>
            </a: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: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The Girl’s legs are shor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回答</a:t>
            </a: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: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the girl‘s legs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為複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they a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yes-no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y: _____ she watching TV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: No, she __ playing computer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原直述句</a:t>
            </a: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: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She is watching TV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圖片 4" descr="use computer.gif"/>
          <p:cNvPicPr/>
          <p:nvPr/>
        </p:nvPicPr>
        <p:blipFill>
          <a:blip r:embed="rId2"/>
          <a:stretch/>
        </p:blipFill>
        <p:spPr>
          <a:xfrm>
            <a:off x="928800" y="2714760"/>
            <a:ext cx="3584520" cy="250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wh-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: _____ is the m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: He is under the apple tre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問地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Where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785880" y="2786040"/>
            <a:ext cx="2504880" cy="3357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wh-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lay footba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fter school every 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根據劃線部分改成疑問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do you _____ after scho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 _____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問動作疑問詞用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what,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其餘照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What/ do/ every 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wh-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1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: _____ is s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 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 Who                                (my sis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問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alibri"/>
              </a:rPr>
              <a:t>wh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圖片 3" descr="child face.jpg"/>
          <p:cNvPicPr/>
          <p:nvPr/>
        </p:nvPicPr>
        <p:blipFill>
          <a:blip r:embed="rId2"/>
          <a:stretch/>
        </p:blipFill>
        <p:spPr>
          <a:xfrm>
            <a:off x="5940360" y="1628640"/>
            <a:ext cx="1981440" cy="227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否定句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ke his Chinese teacher very m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第三人稱單數用助動詞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do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does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否定句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Do you like to learn Englis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No, 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I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所用的助動詞為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標楷體"/>
                <a:ea typeface="標楷體"/>
              </a:rPr>
              <a:t>否定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71760" y="128592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2" action="ppaction://hlinksldjump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3" action="ppaction://hlinksldjump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4" action="ppaction://hlinksldjump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00760" y="1285920"/>
            <a:ext cx="223200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5" action="ppaction://hlinksldjump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6" action="ppaction://hlinksldjump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7" action="ppaction://hlinksldjump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否定句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can play tennis w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改為否定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be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後，一般前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標楷體"/>
              </a:rPr>
              <a:t>She can not play tennis w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現在進行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twenty work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(work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at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beV.+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are 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現在進行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uy) oranges in the fruit st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我正在水果店裡買橘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beV.+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am bu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現在進行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(put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lowers into the v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她正在把花放進花瓶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put→put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is p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過去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d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tudy) with her classmate at the library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dy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昨天和同學在圖書館裡讀書。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study→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規則變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Calibri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stud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過去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(do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mework at home last 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昨晚在家中沒做作業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過去式助動詞為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d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標楷體"/>
              </a:rPr>
              <a:t>did 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過去式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lowers ______ (be V) for yo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you lik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   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“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Did”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為過去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Calibri"/>
                <a:ea typeface="標楷體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標楷體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未 來 式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 family will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join) the group to visit Tokyo on Ju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李家人將在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號參加一個去東京的旅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團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「將」</a:t>
            </a:r>
            <a:r>
              <a:rPr b="0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zh-TW" sz="2600" spc="-1" strike="noStrike">
                <a:solidFill>
                  <a:srgbClr val="008000"/>
                </a:solidFill>
                <a:latin typeface="新細明體"/>
              </a:rPr>
              <a:t>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未來式</a:t>
            </a:r>
            <a:r>
              <a:rPr b="0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zh-TW" sz="2600" spc="-1" strike="noStrike">
                <a:solidFill>
                  <a:srgbClr val="008000"/>
                </a:solidFill>
                <a:latin typeface="新細明體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will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+</a:t>
            </a:r>
            <a:r>
              <a:rPr b="0" lang="en-US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原形動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未 來 式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play baseball tomorrow afterno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y baseball tomorrow afterno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 is going to          (B) is go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are going to       (D) are go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beV.+Ving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為現在進行式用法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Calibri"/>
                <a:ea typeface="標楷體"/>
              </a:rPr>
              <a:t>          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標楷體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未 來 式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movie tomorro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 will go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 will go to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will goes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 will goe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未來時間用未來式作答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                         </a:t>
            </a:r>
            <a:r>
              <a:rPr b="0" lang="zh-TW" sz="2600" spc="-1" strike="noStrike">
                <a:solidFill>
                  <a:srgbClr val="008000"/>
                </a:solidFill>
                <a:latin typeface="標楷體"/>
                <a:ea typeface="標楷體"/>
              </a:rPr>
              <a:t>助動詞後動詞用原型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       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標楷體"/>
                <a:ea typeface="標楷體"/>
              </a:rPr>
              <a:t>現在進行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71760" y="128592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2" action="ppaction://hlinksldjump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3" action="ppaction://hlinksldjump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4" action="ppaction://hlinksldjump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5000760" y="1285920"/>
            <a:ext cx="223200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5" action="ppaction://hlinksldjump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yes-no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is from America. 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請改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yes-no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問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be V.</a:t>
            </a:r>
            <a:r>
              <a:rPr b="0" lang="zh-TW" sz="2600" spc="-1" strike="noStrike">
                <a:solidFill>
                  <a:srgbClr val="008000"/>
                </a:solidFill>
                <a:latin typeface="Times New Roman"/>
                <a:ea typeface="標楷體"/>
              </a:rPr>
              <a:t>移至句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Calibri"/>
                <a:ea typeface="標楷體"/>
              </a:rPr>
              <a:t>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標楷體"/>
              </a:rPr>
              <a:t>Is John from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yes-no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 John and Mary good stud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 is     (B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are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 Is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主詞為複數、句首大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Calibri"/>
                <a:ea typeface="標楷體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標楷體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yes-no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Calibri"/>
              </a:rPr>
              <a:t>　　　　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friends hungr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'm not 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friend“s”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為複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  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wh-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 go to Jap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 went to Jap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as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 Where did       (B) When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Where do        (D) When d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此題為過去式、問時間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Calibri"/>
                <a:ea typeface="標楷體"/>
              </a:rPr>
              <a:t>        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標楷體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wh-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7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Calibri"/>
              </a:rPr>
              <a:t>　　　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be V.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He's not g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注意題目是問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“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狀態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How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wh-</a:t>
            </a:r>
            <a:r>
              <a:rPr b="0" lang="zh-TW" sz="4400" spc="-1" strike="noStrike">
                <a:solidFill>
                  <a:srgbClr val="c00000"/>
                </a:solidFill>
                <a:latin typeface="Calibri"/>
                <a:ea typeface="標楷體"/>
              </a:rPr>
              <a:t>問句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G2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_______ is your purple 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is under that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 Who (B) How (C) Where (D) 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此題為問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“</a:t>
            </a:r>
            <a:r>
              <a:rPr b="0" lang="zh-TW" sz="2600" spc="-1" strike="noStrike">
                <a:solidFill>
                  <a:srgbClr val="008000"/>
                </a:solidFill>
                <a:latin typeface="Arial"/>
                <a:ea typeface="標楷體"/>
              </a:rPr>
              <a:t>地點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標楷體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標楷體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標楷體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765000"/>
            <a:ext cx="5047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標楷體"/>
                <a:ea typeface="標楷體"/>
              </a:rPr>
              <a:t>過去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71760" y="128592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2" action="ppaction://hlinksldjump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3" action="ppaction://hlinksldjump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4" action="ppaction://hlinksldjump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000760" y="1285920"/>
            <a:ext cx="223200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標楷體"/>
                <a:ea typeface="標楷體"/>
              </a:rPr>
              <a:t>未來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71760" y="128592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2" action="ppaction://hlinksldjump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3" action="ppaction://hlinksldjump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4" action="ppaction://hlinksldjump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000760" y="1285920"/>
            <a:ext cx="223200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yes-no </a:t>
            </a:r>
            <a:r>
              <a:rPr b="1" lang="zh-TW" sz="4400" spc="-1" strike="noStrike">
                <a:solidFill>
                  <a:srgbClr val="c00000"/>
                </a:solidFill>
                <a:latin typeface="標楷體"/>
                <a:ea typeface="標楷體"/>
              </a:rPr>
              <a:t>問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71760" y="128592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2" action="ppaction://hlinksldjump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3" action="ppaction://hlinksldjump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4" action="ppaction://hlinksldjump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000760" y="1285920"/>
            <a:ext cx="223200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標楷體"/>
              </a:rPr>
              <a:t>wh- </a:t>
            </a:r>
            <a:r>
              <a:rPr b="1" lang="zh-TW" sz="4400" spc="-1" strike="noStrike">
                <a:solidFill>
                  <a:srgbClr val="c00000"/>
                </a:solidFill>
                <a:latin typeface="標楷體"/>
                <a:ea typeface="標楷體"/>
              </a:rPr>
              <a:t>問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71760" y="1285920"/>
            <a:ext cx="22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2" action="ppaction://hlinksldjump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3" action="ppaction://hlinksldjump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ad1f1f"/>
                </a:solidFill>
                <a:uFillTx/>
                <a:latin typeface="Calibri"/>
                <a:ea typeface="標楷體"/>
                <a:hlinkClick r:id="rId4" action="ppaction://hlinksldjump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000760" y="1285920"/>
            <a:ext cx="223200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一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二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00000"/>
                </a:solidFill>
                <a:latin typeface="Calibri"/>
                <a:ea typeface="標楷體"/>
              </a:rPr>
              <a:t>第三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4:07:49Z</dcterms:created>
  <dc:creator>nc</dc:creator>
  <dc:description/>
  <dc:language>en-US</dc:language>
  <cp:lastModifiedBy>nc</cp:lastModifiedBy>
  <dcterms:modified xsi:type="dcterms:W3CDTF">2009-10-30T02:31:47Z</dcterms:modified>
  <cp:revision>70</cp:revision>
  <dc:subject/>
  <dc:title>Group 1</dc:title>
</cp:coreProperties>
</file>