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2EC-749D-48DE-A891-9E973E68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2AB-1D40-43E9-9FA7-6D9DC36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625-659E-4C55-96FB-DD457113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846-D491-4885-8581-6AF17FAB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2EF-2898-4D4A-ADEC-084E979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6B0-23A7-4FC7-8247-75B65DEF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5D2-4F9D-4015-AC2E-92BD2045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F43-DE3A-420B-ADF9-EA8BBAFF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A96-7F99-4C1D-9806-7995315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95E-D0CA-4912-81BF-82F251B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E8A-9FEF-4283-8855-483370B7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030-D0E5-4F18-A809-A29C969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EEFA-6432-4C28-847E-1B9883AE0C5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繪本閱讀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~I Love My Mommy Becau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18728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48:59Z</dcterms:created>
  <dc:creator>user</dc:creator>
  <dc:description/>
  <dc:language>en-US</dc:language>
  <cp:lastModifiedBy>user</cp:lastModifiedBy>
  <dcterms:modified xsi:type="dcterms:W3CDTF">2008-06-29T15:49:02Z</dcterms:modified>
  <cp:revision>1</cp:revision>
  <dc:subject/>
  <dc:title>繪本閱讀~I Love My Mommy Because…</dc:title>
</cp:coreProperties>
</file>